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BEEB-63B5-4358-B24E-2507021F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3248-6D57-49A0-A478-69A63742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E70E-0F9A-4B3C-995D-B9995CFA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6A29-AFA1-414E-98F8-D50684EE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39CF-D00D-458D-963D-6A2BA9E9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B8F9-730F-42EE-AF7A-F6EFDCC5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D94B-D546-4508-A419-81288D2C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F673-7D28-4CCA-97CF-D9CD1BCE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528B-39BB-4930-BFB5-BC1ACE3F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AADA-4A9E-43AE-AA49-14199B3E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C5FD-73CB-4A11-8D59-45DFAAFA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7A52-B13D-498A-972F-BE44DBA0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7E31-2B57-4F90-B86B-BAB7CA835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42160" cy="4681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7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250920" y="5130720"/>
            <a:ext cx="85690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لا يقبل الحق ولا يرغب في التوب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3"/>
          <a:stretch/>
        </p:blipFill>
        <p:spPr>
          <a:xfrm>
            <a:off x="468360" y="981000"/>
            <a:ext cx="8481960" cy="1447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4"/>
          <a:stretch/>
        </p:blipFill>
        <p:spPr>
          <a:xfrm>
            <a:off x="1042920" y="3654360"/>
            <a:ext cx="7851960" cy="150012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2347920"/>
            <a:ext cx="85690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سير قوله تعالى ( يخرج الحي من الميت ) اي كما يخرج الفرخ من البيضة </a:t>
            </a:r>
            <a:br>
              <a:rPr sz="2500"/>
            </a:b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تفسير قولة تعالى ( ويخرج الميت من الحي ) اي كما يخرج البيضة من الدجاج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68"/>
          <a:stretch/>
        </p:blipFill>
        <p:spPr>
          <a:xfrm>
            <a:off x="539640" y="2565360"/>
            <a:ext cx="8136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16360" y="4668840"/>
            <a:ext cx="35049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ان تحدث الآيات السابقة عن صدق رسالة محمد صلى الله عليه وسل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ت الآيات الرد على الكاف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637480" cy="4895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-9360" y="892080"/>
            <a:ext cx="9144000" cy="73656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48927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كيف تفك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778200" y="1015920"/>
            <a:ext cx="3602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وحيد الالوهية والربوبي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39760" y="43513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رف أمر المخلوق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39760" y="55054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جب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6087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عذاب على الكافر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تدبير الكون خاص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له وحد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زعم أن مع الله مدبراً فق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كف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قرار بتوحيد الربوبية يستلزم الإقرار ب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قر بأن الله هو الخالق لزمه أ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بده وح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شركي العرب كانوا يقرون بتوحيد الربوبية ولم ينفعهم ذلك لعدم إقرارهم ب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ق واحد لا يتعدد فمن لم يكن على الحق فهو عل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اط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79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وغل في الفسق يصبح طبعاً لصاحبه فلا يقب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ق ولا يرغب في التوب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538020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قرآن يربي أتباعه على الالتزا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عق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595008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كر القرآن على المشركين عدم الالتزا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عق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184320" y="1052640"/>
            <a:ext cx="8708760" cy="128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4427640" y="2276640"/>
            <a:ext cx="4465440" cy="722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5292720" y="3036960"/>
            <a:ext cx="3527280" cy="730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"/>
          <p:cNvPicPr/>
          <p:nvPr/>
        </p:nvPicPr>
        <p:blipFill>
          <a:blip r:embed="rId6"/>
          <a:stretch/>
        </p:blipFill>
        <p:spPr>
          <a:xfrm>
            <a:off x="6156360" y="3828960"/>
            <a:ext cx="2782800" cy="590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"/>
          <p:cNvPicPr/>
          <p:nvPr/>
        </p:nvPicPr>
        <p:blipFill>
          <a:blip r:embed="rId7"/>
          <a:stretch/>
        </p:blipFill>
        <p:spPr>
          <a:xfrm>
            <a:off x="3095640" y="3786120"/>
            <a:ext cx="3060720" cy="676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"/>
          <p:cNvPicPr/>
          <p:nvPr/>
        </p:nvPicPr>
        <p:blipFill>
          <a:blip r:embed="rId8"/>
          <a:stretch/>
        </p:blipFill>
        <p:spPr>
          <a:xfrm>
            <a:off x="6948360" y="4581360"/>
            <a:ext cx="1944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5:10:01Z</dcterms:modified>
  <cp:revision>1955</cp:revision>
  <dc:subject/>
  <dc:title>عرض تقديمي في PowerPoint</dc:title>
</cp:coreProperties>
</file>